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A950-384B-46D1-9FEC-0C0E88DE3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5E71-3892-4DF9-83E2-33249BB0C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9B2F-527B-487C-A3C1-ABE66C54B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5C21-D70F-49D8-A987-C9610FDE2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BE314-4DC5-40A2-852D-EDB96DBB4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9E9CC-899E-4B0B-949E-5E1C8C581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774C5-0335-412C-8F74-882E628F0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D6AF8-BFB2-4317-AAFB-525256490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289E1-9608-4D98-ABEA-2CA4EC95E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517AF-2805-4735-A2AF-30AB4BD6E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0F121-6BB5-4CBA-B5CE-EF914E437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FD5B-6468-48DE-BA23-72FDA931D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EAB2E-1C34-4D86-A2DC-9B5348F4D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F7C86-F55D-445C-858C-8F22277F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F27ED-7281-4112-8506-BF96C5E83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6EF83-3DDC-425B-B87E-400E192BF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23401-BC78-4C23-A30A-433B30C2A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1D5B-F30D-495E-8F52-F1B4A0963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0C19-F975-4E20-A31D-DB683D2C4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C007-450C-404E-ADE0-0790B183D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2948-AE51-4746-8BCC-0CCA5C835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A21B-5C38-486C-BAEB-73C0BC7C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A5AD-E1A7-420F-BB0C-9FC50BF95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F3EF-E49C-4B03-9158-CAD574641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6440B0-8FF7-4C2C-8B5F-8146C26C0B1F}" type="datetime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7200" y="6356520"/>
            <a:ext cx="8229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Gabriele Gabrielli, Silvia Profili, Organizzazione e gestione delle risorse umane © 2013 De Agostini Scuola SpA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813F14-FD14-4E82-9721-E7BE231F99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"/>
          <p:cNvSpPr/>
          <p:nvPr/>
        </p:nvSpPr>
        <p:spPr>
          <a:xfrm>
            <a:off x="1438200" y="0"/>
            <a:ext cx="6823080" cy="4237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Calibri"/>
              </a:rPr>
              <a:t>Gabriele Gabrielli, Silvia Profili,  </a:t>
            </a:r>
            <a:r>
              <a:rPr b="0" i="1" lang="it-IT" sz="1400" spc="-1" strike="noStrike">
                <a:solidFill>
                  <a:srgbClr val="ffffff"/>
                </a:solidFill>
                <a:latin typeface="Calibri"/>
              </a:rPr>
              <a:t>Organizzazione e gestione delle risorse uma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12" descr=""/>
          <p:cNvPicPr/>
          <p:nvPr/>
        </p:nvPicPr>
        <p:blipFill>
          <a:blip r:embed="rId2"/>
          <a:stretch/>
        </p:blipFill>
        <p:spPr>
          <a:xfrm>
            <a:off x="8261280" y="0"/>
            <a:ext cx="870120" cy="1287360"/>
          </a:xfrm>
          <a:prstGeom prst="rect">
            <a:avLst/>
          </a:prstGeom>
          <a:ln w="9360">
            <a:solidFill>
              <a:srgbClr val="bfbfbf"/>
            </a:solidFill>
            <a:miter/>
          </a:ln>
        </p:spPr>
      </p:pic>
      <p:pic>
        <p:nvPicPr>
          <p:cNvPr id="7" name="Picture 5" descr=""/>
          <p:cNvPicPr/>
          <p:nvPr/>
        </p:nvPicPr>
        <p:blipFill>
          <a:blip r:embed="rId3"/>
          <a:stretch/>
        </p:blipFill>
        <p:spPr>
          <a:xfrm>
            <a:off x="69840" y="77760"/>
            <a:ext cx="1244520" cy="393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1438200" y="0"/>
            <a:ext cx="6823080" cy="4237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Calibri"/>
              </a:rPr>
              <a:t>Gabriele Gabrielli, Silvia Profili,  </a:t>
            </a:r>
            <a:r>
              <a:rPr b="0" i="1" lang="it-IT" sz="1400" spc="-1" strike="noStrike">
                <a:solidFill>
                  <a:srgbClr val="ffffff"/>
                </a:solidFill>
                <a:latin typeface="Calibri"/>
              </a:rPr>
              <a:t>Organizzazione e gestione delle risorse uma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12" descr=""/>
          <p:cNvPicPr/>
          <p:nvPr/>
        </p:nvPicPr>
        <p:blipFill>
          <a:blip r:embed="rId2"/>
          <a:stretch/>
        </p:blipFill>
        <p:spPr>
          <a:xfrm>
            <a:off x="8261280" y="0"/>
            <a:ext cx="870120" cy="1287360"/>
          </a:xfrm>
          <a:prstGeom prst="rect">
            <a:avLst/>
          </a:prstGeom>
          <a:ln w="9360">
            <a:solidFill>
              <a:srgbClr val="bfbfbf"/>
            </a:solidFill>
            <a:miter/>
          </a:ln>
        </p:spPr>
      </p:pic>
      <p:pic>
        <p:nvPicPr>
          <p:cNvPr id="46" name="Picture 5" descr=""/>
          <p:cNvPicPr/>
          <p:nvPr/>
        </p:nvPicPr>
        <p:blipFill>
          <a:blip r:embed="rId3"/>
          <a:stretch/>
        </p:blipFill>
        <p:spPr>
          <a:xfrm>
            <a:off x="69840" y="77760"/>
            <a:ext cx="1244520" cy="3938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3473AB-CB4A-4E00-81B1-A6953CA8C816}" type="datetime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457200" y="6356520"/>
            <a:ext cx="8229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Gabriele Gabrielli, Silvia Profili, </a:t>
            </a:r>
            <a:r>
              <a:rPr b="0" i="1" lang="en-US" sz="1200" spc="-1" strike="noStrike">
                <a:solidFill>
                  <a:srgbClr val="898989"/>
                </a:solidFill>
                <a:latin typeface="Times New Roman"/>
              </a:rPr>
              <a:t>Organizzazione e gestione delle risorse umane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3 De Agostini Scuola Sp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DD5515-36ED-4BED-A67D-21EC85A589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sercitazion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Employer branding e reclutamen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egnaposto piè di pagina 3"/>
          <p:cNvSpPr/>
          <p:nvPr/>
        </p:nvSpPr>
        <p:spPr>
          <a:xfrm>
            <a:off x="457200" y="63565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Gabriele Gabrielli, Silvia Profili, </a:t>
            </a:r>
            <a:r>
              <a:rPr b="0" i="1" lang="en-US" sz="1200" spc="-1" strike="noStrike">
                <a:solidFill>
                  <a:srgbClr val="898989"/>
                </a:solidFill>
                <a:latin typeface="Calibri"/>
              </a:rPr>
              <a:t>Organizzazione e gestione delle risorse umane, II ed.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6 De Agostini Scuola Sp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3"/>
          <p:cNvSpPr/>
          <p:nvPr/>
        </p:nvSpPr>
        <p:spPr>
          <a:xfrm>
            <a:off x="422280" y="1663560"/>
            <a:ext cx="807084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5876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215968"/>
                </a:solidFill>
                <a:latin typeface="Calibri"/>
              </a:rPr>
              <a:t>Task del grupp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79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alizzare sulla base delle informazioni reperibili su internet e sul sito web dell’azienda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79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l posizionamento dell’azienda in termini di Employer brandin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79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 attività relative al reclutamento promosse dall’aziend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79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79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79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a  presentazione ppt (max 15 slide) verrà successivamente presentata in aula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79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l tempo disponibile per la presentazione è di 20 minuti x ciascun grupp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982800" y="565200"/>
            <a:ext cx="67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it-IT" sz="3400" spc="-1" strike="noStrike">
                <a:solidFill>
                  <a:srgbClr val="31859c"/>
                </a:solidFill>
                <a:latin typeface="Calibri"/>
              </a:rPr>
              <a:t>Team work: Il processo di selezione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egnaposto piè di pagina 1"/>
          <p:cNvSpPr/>
          <p:nvPr/>
        </p:nvSpPr>
        <p:spPr>
          <a:xfrm>
            <a:off x="457200" y="63565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Gabriele Gabrielli, Silvia Profili, </a:t>
            </a:r>
            <a:r>
              <a:rPr b="0" i="1" lang="en-US" sz="1200" spc="-1" strike="noStrike">
                <a:solidFill>
                  <a:srgbClr val="898989"/>
                </a:solidFill>
                <a:latin typeface="Calibri"/>
              </a:rPr>
              <a:t>Organizzazione e gestione delle risorse umane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3 De Agostini Scuola Sp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982800" y="496800"/>
            <a:ext cx="678024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it-IT" sz="3200" spc="-1" strike="noStrike">
                <a:solidFill>
                  <a:srgbClr val="31859c"/>
                </a:solidFill>
                <a:latin typeface="Calibri"/>
              </a:rPr>
              <a:t>Team work: Il processo di selezi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331920" y="1065240"/>
            <a:ext cx="8421480" cy="54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5876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215968"/>
                </a:solidFill>
                <a:latin typeface="Calibri"/>
              </a:rPr>
              <a:t>Linee guida per la presentazio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5876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A titolo esemplificativo, la presentazione deve fornire informazioni sui seguenti aspett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crizione dell’aziend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key figures, business, posizionamento strategico, cultura organizzativ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crizione del posizionamento dell’azienda in termini di employer bran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’azienda ha qualche riconoscimento particolar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Quali informazioni sull’azienda vengono evidenziate per attrarre/scremare le candidatur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me valutate il posizionamento dell’azienda in una logica di employer branding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crizione del processo di reclutamen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Quali sono le principali informazioni che l’azienda comunica relativamente alle posizioni per le quali ha in corso una ricerca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’azienda è efficace nel “settare” le aspettative dei potenziali candidati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l processo di reclutamento è differenziato per diverse tipologie di candidati? Come vengono eventualmente definit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egnaposto piè di pagina 1"/>
          <p:cNvSpPr/>
          <p:nvPr/>
        </p:nvSpPr>
        <p:spPr>
          <a:xfrm>
            <a:off x="457200" y="6356520"/>
            <a:ext cx="822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Gabriele Gabrielli, Silvia Profili, </a:t>
            </a:r>
            <a:r>
              <a:rPr b="0" i="1" lang="en-US" sz="1200" spc="-1" strike="noStrike">
                <a:solidFill>
                  <a:srgbClr val="898989"/>
                </a:solidFill>
                <a:latin typeface="Calibri"/>
              </a:rPr>
              <a:t>Organizzazione e gestione delle risorse umane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3 De Agostini Scuola Sp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2T15:55:14Z</dcterms:created>
  <dc:creator>aa aa</dc:creator>
  <dc:description/>
  <dc:language>en-US</dc:language>
  <cp:lastModifiedBy>Anna Altieri</cp:lastModifiedBy>
  <dcterms:modified xsi:type="dcterms:W3CDTF">2016-11-03T15:38:41Z</dcterms:modified>
  <cp:revision>12</cp:revision>
  <dc:subject/>
  <dc:title>Esercitazione</dc:title>
</cp:coreProperties>
</file>